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3B4-C81F-4490-B837-5988F82E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A89-BB15-47A8-90DF-86086BF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A28-F50F-4CCA-92F3-EDF62E41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2FB-85B7-4531-A02A-96099D1B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D6AE-4E2B-4637-92A7-81CB4379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4731-AC29-4582-83F3-FCE7312D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F9CF-57BF-44CD-AB35-9FBF62B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FA36-20FB-483D-A352-32C03E39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EFD9-9DFA-4DE1-BF05-2281894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5BF0-8970-49DB-9520-8211B598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4D70-C2BD-4C74-A4AD-F0D7831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FC7-06FC-4228-BF21-7523DD0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79B-AFE0-429E-ACD0-FD924C9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EC8D-31DA-436E-9682-2D2B58F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4D2-2EE3-4E2D-AD01-F0ED3CC0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3C6C-225C-4C30-8E62-5CC93C78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3E6B-D202-48FB-9087-7A1C628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6F4-F9C8-4398-B214-A3F1DEC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4C7-63D8-428D-8DF1-29583E34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A6C-401F-4A11-890B-E5413DC8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F85-1865-4D69-9DC2-4B70B26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256-7632-45F1-BC3B-8E163DB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3B9-1965-41A6-983D-609B43D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2D8-4026-4DC6-BA84-B9ACA87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597-4B07-439C-9B5F-42DB30EEEE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A1B-EEC7-4B40-9A66-75633DFFB2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Me llamo __________ Clase 6NH(602) La fecha es el 3 de diciembre del 201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Verdana"/>
              </a:rPr>
              <a:t>Propósito # 20:</a:t>
            </a: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uál es tu cuarto favorit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Verdana"/>
              </a:rPr>
              <a:t>Actividad Inicia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pia y resp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u familia, ¿ es grande o pequeñ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uántos personas hay en tu famili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ómo se llama tu madre? ¿Y tu padr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ómo se llama tu abuela? ¿y tu abuelo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6094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Verdana"/>
              </a:rPr>
              <a:t>La Sa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83200" y="3263760"/>
            <a:ext cx="253368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cc"/>
                </a:solidFill>
                <a:latin typeface="Verdana"/>
              </a:rPr>
              <a:t>El Come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3680" y="757080"/>
            <a:ext cx="3238200" cy="206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>
            <a:off x="3657600" y="1066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4419720"/>
            <a:ext cx="3095640" cy="2270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El Dorm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604980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La Rec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52880" y="5105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876560" y="5867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486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143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733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0"/>
            <a:ext cx="6629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¿Qué cuarto 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44960" y="658800"/>
            <a:ext cx="2741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ff"/>
                </a:solidFill>
                <a:latin typeface="Verdana"/>
              </a:rPr>
              <a:t>La Coc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33680" y="1823760"/>
            <a:ext cx="1407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itch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898800" cy="2660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419720" y="1294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3678120"/>
            <a:ext cx="4127760" cy="2818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4114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El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12408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14240" y="2469960"/>
            <a:ext cx="1704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Verdana"/>
              </a:rPr>
              <a:t>La Ca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327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6386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omic Sans MS"/>
              </a:rPr>
              <a:t>La Casa Pri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77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vat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1560" y="770040"/>
            <a:ext cx="3105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Verdana"/>
              </a:rPr>
              <a:t>El Edifi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Verdana"/>
              </a:rPr>
              <a:t>El Aparta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29000" cy="312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132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3733920" y="10663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886200" y="49528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Ejercicio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41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Palabra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. R18-R19, en voz a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Historieta 1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. R2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mpleta p. R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733920"/>
            <a:ext cx="6629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Tarea # 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52:41Z</dcterms:created>
  <dc:creator>Helen Zumaeta</dc:creator>
  <dc:description/>
  <dc:language>en-US</dc:language>
  <cp:lastModifiedBy>Helen Zumaeta</cp:lastModifiedBy>
  <dcterms:modified xsi:type="dcterms:W3CDTF">2012-12-03T14:00:07Z</dcterms:modified>
  <cp:revision>12</cp:revision>
  <dc:subject/>
  <dc:title>Me llamo __________ Clase 6NH La fecha es el 26 de marzo del 2012</dc:title>
</cp:coreProperties>
</file>